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6229-FD74-498E-807C-D70D7BD2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5F8-D542-4233-B322-AC917161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2ED71-BC2A-494C-B2A5-D4071D9D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92C09-9AFB-47C2-8DF4-633CC595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06A0C-4EB3-473F-BCEB-B5233965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F396D-4060-4410-AF17-565F485D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61C55-766C-4DE3-A7F1-00CE7CE4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D4199-7443-4E67-A55C-F4AD3C46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AA7C3-237D-4E31-9B7C-4914BA51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F18B9-B996-4807-9ABC-E55F132D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C36B0-46F3-4F2D-A1AB-2F68CC20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A0DC5B-0B61-4814-9E37-36FBEE10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CB5-BECF-42DF-92BF-22E29C88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BCA5A8-9653-430E-ABFB-7F2B2025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276CE9-7C25-4563-91EC-D3FEF691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0810EF-226E-4A09-AECA-41755CE7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2FD5E0-C48C-4042-B052-1F64F8FE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CC578E-5255-411C-8B90-4A0F5AC1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D7AAAE-4995-4A83-B323-2ECBC839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B79F74-7CB2-4DA3-BEB7-4078C721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D0E762-2F01-4AE9-A7EB-9C0CA0B0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46D5CA-53A1-4C77-958C-8D69E306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A91EDA-B86C-478F-8E55-1A7926AB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4D0-C285-4ACC-8B1E-00ED8A31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D1EBEB-888B-475E-B4FA-A01FDBE2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7784A-2F6C-4840-A3EC-EFB96C47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89B79-3D30-4642-A23B-8374B1C1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E98BF-B6F8-4B44-AC44-8C7F4D34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3DDDE-74B7-486E-AA83-5717225A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31C95-C010-427D-92C3-724E3EC0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9714C-FDDA-4CF6-A5F7-FB03A3F4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D24E9-3935-4627-B14D-0FB3C935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B9F42-AE34-412B-AB40-85CCCD6E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4A521-39DB-4A77-A1AB-CC1465BD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54E2-49D0-489C-B640-D7E9B642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6553E-D796-4015-9E32-2AC9A3F5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11067-D51F-458E-A9AF-3A37C35D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625D1-F869-48F2-A408-F3BE33B0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EBF19-1C6F-421C-82B4-71DFAA6E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A5829-392C-4DA1-AF2C-FC6C1E07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3ED04-8AC8-4E31-94CD-6B637CFA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7BD04-E5A6-4D6A-8D54-ADE6D445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BE9FC-119B-46C7-94A8-AEA432DD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B8633-9697-45F4-9BF5-E0EDF9EE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262A8-20D0-4C75-8706-12A05C2D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04AB-3D93-4345-9B44-F8CE6380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486C4-DD14-4205-9C58-BC2E38D8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DE000-D61A-47C9-9AE9-F0931E10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62190-1B42-474A-AC5C-514A8D4D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EA94A-0E0E-4A83-A2A3-09AD2626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D61C6-39D9-48EE-AE59-3E30212E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A34E-83DB-4AE0-A8CA-6D0A1440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4BD4-DA86-4E49-AAA5-72D72503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E391-50C5-4FBE-AF14-23B21920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EB82-8EAE-4843-83B0-2A57286D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2E6B-D382-485F-87B1-A668C73F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9B8-1257-4498-AA28-BF17F139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8ED1-7068-49D4-B13E-AAED67CE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4505-07FE-403A-901E-BCC3899D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19E9-F747-44A4-B4F5-C017BDF9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6C70-C2B5-476A-805A-0D1B460B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527B-3D2F-45A4-B2C7-FDC5B7B2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398F1-1559-4E9E-86C5-E636929B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48DD-F25D-42F4-9C16-9F9C582F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19B96-A04F-423E-A393-09A5A67E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06EB5-5C8F-4E4E-8259-901492F4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6575D-FA31-4B04-B9C0-F209DCE4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6AA-1E09-419F-A2DD-C2E4186D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0E866-0E54-4851-B4F8-5695215D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9FCEE-7469-493F-8A65-18043C26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C322B-BD68-4231-AD37-40EC8CCC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68F58-D00B-4451-BE72-13CBDF77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7C760-9286-40D0-AAAB-E92B715C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994E1-49C7-4183-A215-612ECEF3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58126-2362-4AA8-BCC2-B50EA07B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F4A74-99DB-4F12-8591-4B835157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0080C-DEF8-46DE-9C75-1DCFFC31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1BD1B-188E-429C-B7A0-5A946E30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1A7-50DC-44B1-85BE-09CE2BE9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48108-6A2C-4AFB-BF3A-D389033D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7B1CF-9C23-42D6-8E0E-C4A42A8C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51781-133F-493F-91D3-7D66A968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15FCB-A5D0-4A5A-AECC-EA288D7C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FFBEA-085C-46C8-B3E5-0348A5C1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862CF-C5D2-4E92-9FAE-82E42645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1503A-358C-4EE9-903D-F812E472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EB899-EFF3-4D5D-BD15-C718BE2E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6EBC5-2687-4491-A790-68BD0DDB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FF6E19-231B-47DC-AE19-12061CDB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20A-FB6B-4B7A-AD64-F94AB4EC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48EAE-67D7-4964-B2F3-871C00E7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4D105-FBD1-4000-B6F5-3804388C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5776BD-62BB-4355-99B7-05D271ED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F6BE78-FF76-4ED1-A7BA-E4753DA0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3F2F06-C66A-4AF7-AB92-DA95F58C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0C876-AAFC-46D5-AB2C-D4B71012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C9B07A-00E5-47DB-B62A-56B84BB8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8C8CD-BCCE-494F-A60F-EF7C807A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B22F46-1B40-4DBE-AA6C-A6863A59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864A1-FCE3-4B64-A8A4-9CE3137D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3207-59C7-452D-851F-5BA3F8DE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40E7CE-F18D-495B-9421-FBB79997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DA9EA-543D-4734-9987-D6DC9270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6E0B4-9272-48EF-AE78-115DE7DE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AF403-8DDD-4F00-8DCC-B3A79915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82DEB-924C-42F1-AFDB-EACFB202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AE59C-5B1C-4960-BA06-17D09B73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538D8-B211-4DB6-A819-BA5B8C4D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DBA85-507E-4B8B-BE8E-052331CC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BAA54-1D1A-4C9C-8FD7-2F09F8B7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513FB-C70B-4A96-AF65-3BBFF7A3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15F8-9BCE-4592-971C-CC05E3C1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B8055-DBD5-4E3A-ACF1-18F3CC9F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703DD-6927-446A-A842-CC2DE9F0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C081A-FC7A-4ADB-A1A6-8DD18C4A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F792E-04B8-48AF-8F58-F4FE72F4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65AC2-6B23-4F07-8BDA-ECEA1388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12C3E-D145-41B3-AB8F-C06EC5D2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FEEB5-573E-4ED1-BC79-00EA9754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CDA64-8471-4CCF-83F1-5985F316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342CD-BCF7-4F8E-903A-9C87A537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5DC60-D6DE-4C3B-922E-E6F98941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84A-5E84-4C2B-9670-C3D066B3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A3298-2A36-443D-988A-248BC7F0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57AB8-9968-47EC-8AC1-B36ED9B2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5D7D5-D131-4AE6-9076-881B386D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ADF64-C25F-47BE-9CAB-492153C9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0A0C7-9E08-4833-9C0E-721E0C4A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05F14-26CC-4F62-82C4-19E3AB37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1A72C-9BDF-4693-BE2C-C29EE428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9CDF0-6D12-41D9-9142-5DC4C915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1796E-76D4-420C-8DDE-2E06C0C5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56A1D-1E3E-4DE2-AB38-F0DD6561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811-3938-4192-9536-FCA12A33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FB631-4291-4162-9457-D6412D2B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69CA5-0936-4352-94C8-895AC89A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DBF51-3C05-44B5-9986-7D3CB93F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0AA56-C9B9-4578-B0D8-E7335DD2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EFD26-925C-46FE-B6C3-24313F98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18609-390C-45A9-A9E7-6FA1812F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780F7-CC67-4BB7-8DBC-A45B7AF1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11294-AABC-4544-98E7-C4B4F90C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CCA55-0F41-41C0-A87C-B7894D3C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8BB9C-66D9-4969-8CAB-3032FA0B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C3E3-764E-4913-A413-6CC7212593C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5DA1-C031-46F3-AA57-BA4F113A50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9ECF-2433-4FCC-AA60-6C2A6F088CF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F102-5BEC-4C67-B8D1-4B088DDC5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BEE9-D056-4D09-A204-A7A8C99D09F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9B80-6365-437A-840B-3694AF86400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5009-5C9E-4330-92C5-A9C0E910B33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F823-0DCD-43E3-A53C-2C9994F37C3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6209-12B0-435A-BC80-327A46C3A36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7194-C05E-43C3-8435-CBB8CDEA39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4340-6B78-43AB-A00F-0ACD726ECA2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BA39-DDB0-49C2-A80E-267B9C10F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A723-9831-4B9E-84F5-6973C8DCFB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2C0A-F76A-49E3-A2C8-39F7192B4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7CA2-D4FB-47E4-B599-52A4E941550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DBFF-C9FE-4D85-995D-CD004DE7F95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050A-3389-43B5-ACCE-E134766A602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275F-4DF1-4D7F-9CBA-DD04BC8EF9E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FA93-EAFE-4802-B483-0505BBC1932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2243-A15D-45F5-878C-A21FE53DDB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8C8C-B2A4-47B5-BCD8-F83BF12E785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F70F-16F6-49C3-A460-E20ACD8A393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F162-3A0D-4E81-AAA6-6B1C9295B0C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BC18-B496-4208-A5AE-FA4730541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7482-F36F-496A-BC14-432D599F04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A8622-9F1D-4CA8-966F-FBAED97DE74A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2B9A2-18A5-4A3D-8D82-93BE520880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51E2F11-B59F-4826-80F7-345A94F5379E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FEC4C-21FF-4D25-A1FE-399931C6942C}" type="slidenum">
              <a:t>3</a:t>
            </a:fld>
          </a:p>
        </p:txBody>
      </p:sp>
    </p:spTree>
  </p:cSld>
  <p:transition>
    <p:comb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C3DDA-2EAE-41A0-A45B-91F52753A7A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E2D26BE9-79CE-48CE-80AE-3FA0C321728F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20F47-0F4A-4368-A643-7F7418633A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571BED6A-F9CB-4688-81DE-4E238D8E083D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9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7A746-D055-4652-9A3A-C5B30C47473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45D3F3E-FACA-4CB7-AAED-C7BEB0834FD5}" type="datetime1">
              <a:rPr lang="en-US"/>
              <a:t>07/31/26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