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18569"/>
        <c:axId val="73919001"/>
      </c:barChart>
      <c:catAx>
        <c:axId val="56518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19001"/>
        <c:crosses val="autoZero"/>
        <c:auto val="1"/>
        <c:lblAlgn val="ctr"/>
        <c:lblOffset val="100"/>
        <c:noMultiLvlLbl val="0"/>
      </c:catAx>
      <c:valAx>
        <c:axId val="73919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18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4D9-64FD-403A-A768-B9284753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078-270D-4502-8224-05CA708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173-479A-42AC-AF27-FEC1FB82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66F-9BE9-410B-BE7E-8C60E2A1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BBF-1F1E-4233-8156-06BC30FA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515-4125-4D45-9CE5-87161264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196-1E5F-4C50-A803-065B86FF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EE6-69C3-421F-A11D-F7188E4F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ECD-572A-45B1-B4A4-29828957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C81-238F-42E8-8D09-8D52A591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D18-84EA-4572-9459-047D1F22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86D-2A4C-4CAE-B153-3EF25838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2A199-650B-4ED8-BFB8-CF14344FC2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