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728786"/>
        <c:axId val="94197452"/>
      </c:barChart>
      <c:catAx>
        <c:axId val="407287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197452"/>
        <c:crosses val="autoZero"/>
        <c:auto val="1"/>
        <c:lblAlgn val="ctr"/>
        <c:lblOffset val="100"/>
        <c:noMultiLvlLbl val="0"/>
      </c:catAx>
      <c:valAx>
        <c:axId val="941974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287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BD54-C60B-4FDB-9588-253587E65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6C9C-B5B0-46D8-9674-E182E4A8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FE77-D153-448A-81AD-D134276D2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CE18-7049-4F08-BBBA-F25B739B8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5059-8C6B-42BA-9A25-916A642D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E524-33F4-4DDF-A3DE-C0C8B2F6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7AF3-DB0C-4D94-B3AA-CCD1A80B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2C93-5F5C-4446-8449-AEDCAF53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FE56-6A2C-4C3F-A8BC-D8DA4BCB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65DA-7781-465F-AFC5-A72ABFA0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87F4-B30B-419C-B044-3D143E1E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A487-A31C-4C72-B837-F82ADB7F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AFBD0-C47B-4E26-8EE5-621E897B13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