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7009"/>
        <c:axId val="4523601"/>
      </c:barChart>
      <c:catAx>
        <c:axId val="4857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3601"/>
        <c:crosses val="autoZero"/>
        <c:auto val="1"/>
        <c:lblAlgn val="ctr"/>
        <c:lblOffset val="100"/>
        <c:noMultiLvlLbl val="0"/>
      </c:catAx>
      <c:valAx>
        <c:axId val="45236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7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1E7-1DC3-4E77-A7F3-769578A11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D65-6E31-4CF0-947A-3FD1B46B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44B-DA21-4619-BE0E-67B86D1C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336F-5D4A-46F0-9EE7-59796CDD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FF4-0186-4C0E-AAF2-34925647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C76-E23A-4653-AB21-95EDBE17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8B6-B301-4DAF-A07C-748CB784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3E0-C8C2-4611-BAB7-5F9BC658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2B58-BE3D-443C-98F7-D6C55DC5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4A46-F4B0-42A1-BFB7-426A4E0A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C6B-BE22-46E2-822A-FD81BD6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1F0-1559-4CC0-A73F-3F14B520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BA8C5-909C-4952-926B-9158C38E24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