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48565"/>
        <c:axId val="93412740"/>
      </c:barChart>
      <c:catAx>
        <c:axId val="65348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12740"/>
        <c:crosses val="autoZero"/>
        <c:auto val="1"/>
        <c:lblAlgn val="ctr"/>
        <c:lblOffset val="100"/>
        <c:noMultiLvlLbl val="0"/>
      </c:catAx>
      <c:valAx>
        <c:axId val="93412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48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62B-A4F3-45A1-B38C-755C6D8A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680-2A81-46F6-B2D8-12FDE074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2F9-11A0-469D-895C-8E06BCB8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AE8-A32E-42A9-B598-5F913D64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AFD-CA30-428C-80C8-ACA3BE7A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DE5-F885-4181-801B-594C96C2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49E-E230-449D-9627-C5F0E006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E11-7DFB-41A0-A33A-428AA910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F2A-860B-4C97-A16F-C2769FFD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5FC-4CAF-4837-97A1-24F02AB5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E4E-5F97-40BF-8AA0-D544262A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635-BF30-4EC1-BC59-D69B3A2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8E807-4051-4BF1-AA83-66AA429AF8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